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06FE6-B4A0-4E64-97F9-73BEA2D22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880" y="367992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77BBE-8572-473B-8F2D-E22ABEFEF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716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A1BDA-154F-4D54-8108-493F59370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8960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9796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88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8960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9796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D0610-C403-4B7E-89E1-A6F238B3A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5E054-310A-42A9-823C-EDB15F054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CD091-2980-4613-8B9E-CA4E005D9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5B858-1F22-48F9-8421-AF01BD0E5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C1788-5357-454E-B6C5-0576BA165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92753-640E-43B3-B34B-163AB94FF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380880" y="304560"/>
            <a:ext cx="830592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E2335-5838-4D9B-879F-DDFA6CC97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F46CD-E1D8-4A8C-825B-567E57D7D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8ACD3-81A1-44C0-85AC-7E0E8E216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3716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B2334-8AB0-4D13-BD0F-2511DCFAC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72E91-E3C9-4104-BFA6-37242C2CA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0880" y="367992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CFB3D-0307-40D6-A6B9-92344A4BB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3716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657DD-0E16-4971-B377-D56E5B588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8960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9796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38088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8960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9796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12EF2-E100-4563-AA5D-EF56E1AB8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23312-D5D8-49DA-84A2-AA67A06C9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1FEB8-8F95-4662-A3FD-37C733446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463A4-2807-4DF8-AB9B-FE86F0483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80880" y="304560"/>
            <a:ext cx="830592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19686-85EB-4017-A694-B23786EE9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A2711-AC4D-4148-9333-9AF4CC3B4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716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321E0-62EE-4F9B-9181-B0FA99987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E8860-0062-44B7-90BA-C0B51DEE3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c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848720" y="0"/>
            <a:ext cx="0" cy="6858000"/>
          </a:xfrm>
          <a:prstGeom prst="line">
            <a:avLst/>
          </a:prstGeom>
          <a:ln w="38160">
            <a:solidFill>
              <a:srgbClr val="4d63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7924680" y="0"/>
            <a:ext cx="76320" cy="6858000"/>
          </a:xfrm>
          <a:prstGeom prst="rect">
            <a:avLst/>
          </a:prstGeom>
          <a:solidFill>
            <a:srgbClr val="4d63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8077320" y="0"/>
            <a:ext cx="1066680" cy="6858000"/>
          </a:xfrm>
          <a:prstGeom prst="rect">
            <a:avLst/>
          </a:prstGeom>
          <a:solidFill>
            <a:srgbClr val="4d63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-윤명조240"/>
              </a:rPr>
              <a:t>Click to edit the title text format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Click to edit the outline text format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1" marL="743040" indent="-28584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econd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2" marL="11430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Third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3" marL="16002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Four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4" marL="20574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Fif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ix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even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533160" y="6400440"/>
            <a:ext cx="1904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2971440" y="6400440"/>
            <a:ext cx="2895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62940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-윤명조240"/>
                <a:ea typeface="-윤명조240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896DE-3141-4BC3-8840-B38C083F9CA0}" type="slidenum">
              <a:rPr b="0" lang="en-US" sz="1400" spc="-1" strike="noStrike">
                <a:solidFill>
                  <a:srgbClr val="000000"/>
                </a:solidFill>
                <a:latin typeface="-윤명조240"/>
                <a:ea typeface="-윤명조240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C:\pptwork\801\편집배경용\배경화면9우상.png"/>
          <p:cNvPicPr/>
          <p:nvPr/>
        </p:nvPicPr>
        <p:blipFill>
          <a:blip r:embed="rId2"/>
          <a:stretch/>
        </p:blipFill>
        <p:spPr>
          <a:xfrm>
            <a:off x="7451640" y="0"/>
            <a:ext cx="1692360" cy="947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5578a3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C:\pptwork\801\편집배경용\배경화면9좌하.png"/>
          <p:cNvPicPr/>
          <p:nvPr/>
        </p:nvPicPr>
        <p:blipFill>
          <a:blip r:embed="rId2"/>
          <a:stretch/>
        </p:blipFill>
        <p:spPr>
          <a:xfrm>
            <a:off x="0" y="4748040"/>
            <a:ext cx="3048120" cy="21099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C:\pptwork\801\편집배경용\배경화면9벌집들.png"/>
          <p:cNvPicPr/>
          <p:nvPr/>
        </p:nvPicPr>
        <p:blipFill>
          <a:blip r:embed="rId3"/>
          <a:stretch/>
        </p:blipFill>
        <p:spPr>
          <a:xfrm>
            <a:off x="0" y="0"/>
            <a:ext cx="454356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9" descr="C:\pptwork\801\편집배경용\배경화면9우상.png"/>
          <p:cNvPicPr/>
          <p:nvPr/>
        </p:nvPicPr>
        <p:blipFill>
          <a:blip r:embed="rId4"/>
          <a:stretch/>
        </p:blipFill>
        <p:spPr>
          <a:xfrm>
            <a:off x="7451640" y="0"/>
            <a:ext cx="1692360" cy="94788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-윤명조240"/>
              </a:rPr>
              <a:t>Click to edit the title text format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Click to edit the outline text format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1" marL="743040" indent="-28584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econd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2" marL="11430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Third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3" marL="16002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Four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4" marL="20574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Fif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ix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even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904760" y="6400440"/>
            <a:ext cx="1904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4038120" y="6400440"/>
            <a:ext cx="26672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933960" y="6400440"/>
            <a:ext cx="1904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-윤명조240"/>
                <a:ea typeface="-윤명조240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CCF29-BA81-4BB7-9EE8-77586517856B}" type="slidenum">
              <a:rPr b="0" lang="en-US" sz="1400" spc="-1" strike="noStrike">
                <a:solidFill>
                  <a:srgbClr val="000000"/>
                </a:solidFill>
                <a:latin typeface="-윤명조240"/>
                <a:ea typeface="-윤명조240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320" y="1371240"/>
            <a:ext cx="762012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잠재집단분석</a:t>
            </a:r>
            <a:r>
              <a:rPr b="1" lang="en-US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CA)</a:t>
            </a:r>
            <a:r>
              <a:rPr b="1" lang="ko-KR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방법을 통한 </a:t>
            </a:r>
            <a:br>
              <a:rPr sz="4400"/>
            </a:br>
            <a:r>
              <a:rPr b="1" lang="ko-KR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서울시민의 복지태도 연구</a:t>
            </a:r>
            <a:endParaRPr b="0" lang="en-US" sz="44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676160" y="5029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발표</a:t>
            </a:r>
            <a:r>
              <a:rPr b="0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홍경준</a:t>
            </a:r>
            <a:r>
              <a:rPr b="0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·</a:t>
            </a:r>
            <a:r>
              <a:rPr b="0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김사현</a:t>
            </a:r>
            <a:endParaRPr b="0" lang="en-US" sz="2800" spc="-1" strike="noStrike">
              <a:solidFill>
                <a:srgbClr val="160a44"/>
              </a:solidFill>
              <a:latin typeface="-윤명조240"/>
            </a:endParaRPr>
          </a:p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균관대</a:t>
            </a:r>
            <a:r>
              <a:rPr b="0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endParaRPr b="0" lang="en-US" sz="28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560" y="914400"/>
            <a:ext cx="83055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정책에 대한 서울시민의 지지계층 유형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잠재집단을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로 결정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Lo-Mendell-Rubin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의 조정우도비 검증결과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현실적인 해석가능성을 고려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 집단의 명명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abeling)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 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66.0%)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부동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1.5%)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복지 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2.4%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설문문항에 응답할 조건부 확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conditional probability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에 입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뒷장 참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914400" y="2666880"/>
          <a:ext cx="6705720" cy="1901880"/>
        </p:xfrm>
        <a:graphic>
          <a:graphicData uri="http://schemas.openxmlformats.org/drawingml/2006/table">
            <a:tbl>
              <a:tblPr/>
              <a:tblGrid>
                <a:gridCol w="776160"/>
                <a:gridCol w="776520"/>
                <a:gridCol w="635040"/>
                <a:gridCol w="706320"/>
                <a:gridCol w="1200240"/>
                <a:gridCol w="514080"/>
                <a:gridCol w="725760"/>
                <a:gridCol w="726840"/>
                <a:gridCol w="644760"/>
              </a:tblGrid>
              <a:tr h="365400"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L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d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BI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oung-Lo-Mendell-Rubin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우도비검증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333399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Lo-Mendell-Rubin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의 조정우도비검증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333399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7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H0 Loglikelihood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2L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p-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p-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집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267.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9,5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집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770.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7,1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34722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497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471.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집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154.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6,6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33473.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15.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09.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집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838.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6,3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33165.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16.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6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13.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11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1" name="Object 56" descr=""/>
          <p:cNvPicPr/>
          <p:nvPr/>
        </p:nvPicPr>
        <p:blipFill>
          <a:blip r:embed="rId1"/>
          <a:stretch/>
        </p:blipFill>
        <p:spPr>
          <a:xfrm>
            <a:off x="1371600" y="3886200"/>
            <a:ext cx="228600" cy="2286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30556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※ </a:t>
            </a:r>
            <a:r>
              <a:rPr b="0" lang="ko-KR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참고</a:t>
            </a:r>
            <a:r>
              <a:rPr b="0" lang="en-US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:  3</a:t>
            </a:r>
            <a:r>
              <a:rPr b="0" lang="ko-KR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개 잠재집단의 조건부 응답확률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609480" y="1066680"/>
          <a:ext cx="6705720" cy="5813640"/>
        </p:xfrm>
        <a:graphic>
          <a:graphicData uri="http://schemas.openxmlformats.org/drawingml/2006/table">
            <a:tbl>
              <a:tblPr/>
              <a:tblGrid>
                <a:gridCol w="2082960"/>
                <a:gridCol w="2082600"/>
                <a:gridCol w="846360"/>
                <a:gridCol w="847800"/>
                <a:gridCol w="846000"/>
              </a:tblGrid>
              <a:tr h="257760">
                <a:tc gridSpan="2" rowSpan="2"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정책에 대한 쟁점 지표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440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잠재계층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Latent Class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4400">
                      <a:solidFill>
                        <a:srgbClr val="000000"/>
                      </a:solidFill>
                    </a:lnT>
                    <a:lnB w="10800">
                      <a:solidFill>
                        <a:srgbClr val="0000ff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96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확대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지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0800">
                      <a:solidFill>
                        <a:srgbClr val="0000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동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0800">
                      <a:solidFill>
                        <a:srgbClr val="0000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잔여복지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지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0800">
                      <a:solidFill>
                        <a:srgbClr val="0000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한시적 급여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7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4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54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5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6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7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7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8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7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최소생활보장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1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6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3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4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89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35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중산층포괄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6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0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9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79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0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50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4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빈부격차감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8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38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3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58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1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78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1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재정확대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증세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0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3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70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2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4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3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2"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할당사례수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비율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44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757.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66.0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44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551.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1.5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44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894.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12.4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440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4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304560" y="456840"/>
            <a:ext cx="830556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의 구조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일반적 경향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↗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,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↗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↗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종사상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 등이 주시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16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7" name="차트 4" descr=""/>
          <p:cNvPicPr/>
          <p:nvPr/>
        </p:nvPicPr>
        <p:blipFill>
          <a:blip r:embed="rId1"/>
          <a:stretch/>
        </p:blipFill>
        <p:spPr>
          <a:xfrm>
            <a:off x="378000" y="2432160"/>
            <a:ext cx="7705440" cy="427968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304560" y="457200"/>
            <a:ext cx="830556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유형 결정요인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지지층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부동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19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838080" y="1295280"/>
          <a:ext cx="6934320" cy="5281560"/>
        </p:xfrm>
        <a:graphic>
          <a:graphicData uri="http://schemas.openxmlformats.org/drawingml/2006/table">
            <a:tbl>
              <a:tblPr/>
              <a:tblGrid>
                <a:gridCol w="1068480"/>
                <a:gridCol w="857160"/>
                <a:gridCol w="943200"/>
                <a:gridCol w="411120"/>
                <a:gridCol w="944640"/>
                <a:gridCol w="409320"/>
                <a:gridCol w="944640"/>
                <a:gridCol w="409680"/>
                <a:gridCol w="677880"/>
                <a:gridCol w="268200"/>
              </a:tblGrid>
              <a:tr h="304920">
                <a:tc gridSpan="2" rowSpan="2">
                  <a:txBody>
                    <a:bodyPr lIns="34920" rIns="34920" tIns="9720" bIns="9720" anchor="ctr">
                      <a:noAutofit/>
                    </a:bodyPr>
                    <a:p>
                      <a:pPr marL="127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변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8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확대지지층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s.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동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208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97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성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여성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5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8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연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육수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4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4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3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5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취업여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미취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소득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월평균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로그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8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rowSpan="3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종사상지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임시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/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일용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용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7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고용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2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8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영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4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보험수급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경험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3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민간보험가입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가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35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68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1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.13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49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76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37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88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2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례수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df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,2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6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0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5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,99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46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144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.64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.01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.07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.33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1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304560" y="457200"/>
            <a:ext cx="830556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유형 결정요인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복지지지층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부동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종사상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23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942840" y="1295280"/>
          <a:ext cx="6829560" cy="5270760"/>
        </p:xfrm>
        <a:graphic>
          <a:graphicData uri="http://schemas.openxmlformats.org/drawingml/2006/table">
            <a:tbl>
              <a:tblPr/>
              <a:tblGrid>
                <a:gridCol w="1047960"/>
                <a:gridCol w="841320"/>
                <a:gridCol w="974880"/>
                <a:gridCol w="353880"/>
                <a:gridCol w="927000"/>
                <a:gridCol w="401760"/>
                <a:gridCol w="954000"/>
                <a:gridCol w="374760"/>
                <a:gridCol w="681120"/>
                <a:gridCol w="272880"/>
              </a:tblGrid>
              <a:tr h="304920">
                <a:tc gridSpan="2" rowSpan="2">
                  <a:txBody>
                    <a:bodyPr lIns="34920" rIns="34920" tIns="9720" bIns="9720" anchor="ctr">
                      <a:noAutofit/>
                    </a:bodyPr>
                    <a:p>
                      <a:pPr marL="127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변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8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잔여복지지층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s.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동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30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성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여성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0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7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4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6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연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0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육수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2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2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취업여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미취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4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소득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월평균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로그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rowSpan="3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종사상지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임시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/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일용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용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8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고용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0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8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영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6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1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보험수급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경험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6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6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민간보험가입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가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7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1.39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308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1.49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75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1.2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56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1.26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31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424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례수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df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,2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6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0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5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,99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46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144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.64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.01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.07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.33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6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304560" y="457200"/>
            <a:ext cx="830556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유형 결정요인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지지층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복지지지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소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2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914400" y="1295280"/>
          <a:ext cx="6858000" cy="5281560"/>
        </p:xfrm>
        <a:graphic>
          <a:graphicData uri="http://schemas.openxmlformats.org/drawingml/2006/table">
            <a:tbl>
              <a:tblPr/>
              <a:tblGrid>
                <a:gridCol w="1052640"/>
                <a:gridCol w="844560"/>
                <a:gridCol w="922320"/>
                <a:gridCol w="412560"/>
                <a:gridCol w="959040"/>
                <a:gridCol w="374400"/>
                <a:gridCol w="920880"/>
                <a:gridCol w="414360"/>
                <a:gridCol w="666720"/>
                <a:gridCol w="290520"/>
              </a:tblGrid>
              <a:tr h="274680">
                <a:tc gridSpan="2" rowSpan="2">
                  <a:txBody>
                    <a:bodyPr lIns="34200" rIns="34200" tIns="9360" bIns="9360" anchor="ctr">
                      <a:noAutofit/>
                    </a:bodyPr>
                    <a:p>
                      <a:pPr marL="127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변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8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확대지지층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s.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잔여복지지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884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38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성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여성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7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6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5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4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8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40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연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육수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6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2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4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2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취업여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미취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4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40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소득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월평균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로그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7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8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 rowSpan="3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종사상지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임시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/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일용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용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58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고용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5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영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24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8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보험수급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경험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4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40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민간보험가입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가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8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.07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7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.6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66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.97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49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.15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7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6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례수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df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,2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6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0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5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,99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46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220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.64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.01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.07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.33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32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5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요약 및 논의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) </a:t>
            </a: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세 가지 유형의 지지계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서울시민의 복지정책에 대한 비일관적 태도 이면에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일정한 패턴이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 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복지 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부동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) </a:t>
            </a: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많은 복지확대 지지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전체 서울시민의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/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 복지확대 지지층으로 분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발전의 가능성 있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그러나 이러한 지지가 정치적 행위로 이어질지는 의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와 정치적 행위간에는 불일치가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화 과정에 수많은 억제요인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) </a:t>
            </a: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규범적인 복지태도</a:t>
            </a: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그러나 제도적 이해관계가 작동할 가능성</a:t>
            </a: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과 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가 주요한 변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가 개인적 이해관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self-interest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보다는 규범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normal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으로 결정되는 경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이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?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자료적 문제일 수 있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조사대상에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여성 및 미취업자의 비율이 높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고령 및 민간보험가입자의 복지태도가 부정적이라는 면에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향후 복지제도의 확대에 따른 제도적 이해관계가 작동할 가능성이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HY강B"/>
                <a:ea typeface="HY강B"/>
              </a:rPr>
              <a:t>     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4495680"/>
            <a:ext cx="7619760" cy="198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감사합니다</a:t>
            </a:r>
            <a:r>
              <a:rPr b="1" lang="en-US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44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1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문제제기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3055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160a44"/>
              </a:buClr>
              <a:buFont typeface="휴먼모음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발전의 다양성은 정치적 선택의 차이에서 비롯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홍경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2009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160a44"/>
              </a:buClr>
              <a:buFont typeface="휴먼모음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정치적 선택은 개인의 이해관계나 인식이 기초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welfare attitude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에 이것이 반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이로 인해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세계적으로 복지태도에 대한 연구 급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국내도 마찬가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◈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국내의 기존 연구들에서 특기할 사항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를 정의하고 측정하는 방식이 다양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의 정책대상은 매우 다양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ex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소득보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재분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재정 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근 점차 수렴해 가는 양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문제는 이를 종합하는 방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r>
              <a:rPr b="0" lang="ko-KR" sz="2000" spc="-1" strike="noStrike">
                <a:solidFill>
                  <a:srgbClr val="160a44"/>
                </a:solidFill>
                <a:latin typeface="-윤명조240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단순합산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격이 다른 문제를 하나로 측정하는 것의 문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Kangas, 1997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②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별적으로 다룬 후 종합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의 이중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균</a:t>
            </a:r>
            <a:r>
              <a:rPr b="0" lang="en-US" sz="2000" spc="-1" strike="noStrike">
                <a:solidFill>
                  <a:srgbClr val="160a44"/>
                </a:solidFill>
                <a:latin typeface="Arial"/>
                <a:ea typeface="휴먼모음T"/>
              </a:rPr>
              <a:t>·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류진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2000),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비일관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김영순</a:t>
            </a:r>
            <a:r>
              <a:rPr b="0" lang="en-US" sz="2000" spc="-1" strike="noStrike">
                <a:solidFill>
                  <a:srgbClr val="160a44"/>
                </a:solidFill>
                <a:latin typeface="Arial"/>
                <a:ea typeface="휴먼모음T"/>
              </a:rPr>
              <a:t>·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여유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2008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의 제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는 평가적 반응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따라서 정책대상별로 태도가 다양한 것이 당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오히려 다양성을 전제하고 그 안에서 패턴을 찾는 노력이 필요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HY강B"/>
                <a:ea typeface="HY강B"/>
              </a:rPr>
              <a:t> 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304560" y="914400"/>
            <a:ext cx="830556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를 설명하는 기존 이론에 부합하지 않는 한국의 현실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원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?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정책대상의 다양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조작적 정의 및 연구대상의 다양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그러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한국의 복지발전 양상이 서구와 다르기 때문일 수도 있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이러한 상황에서는 한국사회의 현실을 있는 그대로 파악하는 노력이 필요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◈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본 연구의 차별적 접근방식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귀납적 방식에 입각한 접근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조사된 자료를 바탕으로 현실을 객관적으로 파악하려는 시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일련의 복지정책 쟁점들에 대한 사람들의 경향적 반응을 파악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비일관적인 태도에도 일정한 패턴이 있을 수 있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그리고 이것이 집단화되면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하나의 계층을 구성할 것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◈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본 연구의 목적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잠재집단분석법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atent Class Analysis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를 활용해 서울시민의 복지정책에 대한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의 유형 및 구조를 파악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2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복지정책의 쟁점과 지지계층 구별요인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830556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) </a:t>
            </a:r>
            <a:r>
              <a:rPr b="1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정책 쟁점의 선별</a:t>
            </a:r>
            <a:endParaRPr b="0" lang="en-US" sz="28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는 평가적 반응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따라서 평가의 대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영역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을 명확히 해야 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국가 연구에서 가장 고전적인 정책쟁점으로부터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5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지 쟁점영역을 도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평등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보장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빈부격차감소 정책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저생활보장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적 복지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적 복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	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대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중산층에게 복지혜택을 주는 것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급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급여제한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3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재정부담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증세를 통한 재정확대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) </a:t>
            </a:r>
            <a:r>
              <a:rPr b="1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구별요인</a:t>
            </a:r>
            <a:endParaRPr b="0" lang="en-US" sz="28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기존 이론들로부터 지지계층의 유형을 구별할 것으로 예상되는 주요요인을 도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인구사회학적 요인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별과 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여성과 노인은 복지수혜자의 입장이므로 친복지적 태도를 예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실업 및 소득손실의 위험이 적기 때문에 국가복지 반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주적 가치의 사회화로 인해 관용적 태도를 가짐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정책 지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회경제적 지위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경제적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소득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제도의 목적에 따라 다른 양상을 보일 것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노동시장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취업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종사상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노동계급은 복지정책에 긍정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3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적 이해관계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프로그램과 결부된 이해관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new politics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회보험수급경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수급자는 친복지적 태도를 예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보험은 국가복지의 보완재이자 대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입자는 반복지적 태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3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연구방법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3055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361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자료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차 서울시 복지패널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구대상은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0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~90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세 이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분석에 가중치 적용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측정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5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지 항목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한시적 급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소생활보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중산층포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빈부격차감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증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모두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 범주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동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보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동의하지 않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로 측정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구별요인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인구사회학적 요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역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회경제적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소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취업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종사상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적 이해관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회보험수급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HY강B"/>
                <a:ea typeface="HY강B"/>
              </a:rPr>
              <a:t>     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0" name=""/>
          <p:cNvGraphicFramePr/>
          <p:nvPr/>
        </p:nvGraphicFramePr>
        <p:xfrm>
          <a:off x="533520" y="1523880"/>
          <a:ext cx="7162560" cy="4876920"/>
        </p:xfrm>
        <a:graphic>
          <a:graphicData uri="http://schemas.openxmlformats.org/drawingml/2006/table">
            <a:tbl>
              <a:tblPr/>
              <a:tblGrid>
                <a:gridCol w="990360"/>
                <a:gridCol w="457200"/>
                <a:gridCol w="838440"/>
                <a:gridCol w="4876560"/>
              </a:tblGrid>
              <a:tr h="3812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설명요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측정변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조작적 정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401400">
                <a:tc rowSpan="6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인구학적</a:t>
                      </a:r>
                      <a:br>
                        <a:rPr sz="1600"/>
                      </a:b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요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성별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남성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0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여성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연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20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세 이상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~ 90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세 미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지역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구분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서울시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25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개 관할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구분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5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개 광역군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: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동남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서남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서북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동북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도심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교육수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교육연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01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: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재학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퇴학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휴학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수료는 각 학력별 교육연수의 중간값 부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 row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사회경제적</a:t>
                      </a:r>
                      <a:br>
                        <a:rPr sz="1600"/>
                      </a:b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지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소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개인 월평균 소득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자연대수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취업여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취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0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비취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종사상지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임시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/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일용직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기준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상용직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고용주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자영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무급가족종사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40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제도적</a:t>
                      </a:r>
                      <a:br>
                        <a:rPr sz="1600"/>
                      </a:b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이해관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사회보험수급여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경험없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0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경험있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민간보험가입여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미가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0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가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※ </a:t>
            </a:r>
            <a:r>
              <a:rPr b="0" lang="ko-KR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참고</a:t>
            </a:r>
            <a:r>
              <a:rPr b="0" lang="en-US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:  </a:t>
            </a:r>
            <a:r>
              <a:rPr b="0" lang="ko-KR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지지계층유형 구별요인 조작적 정의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304560" y="914040"/>
            <a:ext cx="83055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분석전략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유형 파악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잠재집단분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CA, Latent Class Analysis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장점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a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모형검증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model fit statistics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를 통해 잠재집단의 수를 귀납적으로 결정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b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범주형 자료에 활용가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선형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inearity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을 가정하지 않아도 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유형화 방식에 적합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실 복지태도가 선형적이라 가정할 필요는 없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유형의 구조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다항 로지스틱 회귀분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multinominal logistic regression analysis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의 유형이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 이상인 경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계층유형을 결정하는 요인을 파악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다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본 연구에서는 탐색적인 차원에서 다루어지는 것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4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분석결과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830556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일반적 특성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전반적으로 최저생활보장과 빈부격차감소에 동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한시적 급여는 반대가 강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중산층포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재정확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증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에 대해서는 찬반비율이 비슷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저생활보장과 포괄적</a:t>
            </a:r>
            <a:r>
              <a:rPr b="0" lang="en-US" sz="2000" spc="-1" strike="noStrike">
                <a:solidFill>
                  <a:srgbClr val="160a44"/>
                </a:solidFill>
                <a:latin typeface="Arial"/>
                <a:ea typeface="휴먼모음T"/>
              </a:rPr>
              <a:t>·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보편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를 놓고 의견의 차이가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김영순</a:t>
            </a:r>
            <a:r>
              <a:rPr b="0" lang="en-US" sz="2000" spc="-1" strike="noStrike">
                <a:solidFill>
                  <a:srgbClr val="160a44"/>
                </a:solidFill>
                <a:latin typeface="Arial"/>
                <a:ea typeface="휴먼모음T"/>
              </a:rPr>
              <a:t>·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여유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008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처럼 복지태도의 비일관성이 관찰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838080" y="3581280"/>
          <a:ext cx="3429000" cy="2925720"/>
        </p:xfrm>
        <a:graphic>
          <a:graphicData uri="http://schemas.openxmlformats.org/drawingml/2006/table">
            <a:tbl>
              <a:tblPr/>
              <a:tblGrid>
                <a:gridCol w="1447920"/>
                <a:gridCol w="1143000"/>
                <a:gridCol w="838080"/>
              </a:tblGrid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정책쟁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응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비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29340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한시적 급여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55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7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7.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40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최소생활보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.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3.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9.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40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중산층포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1.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9.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8.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4343400" y="3581280"/>
          <a:ext cx="3429000" cy="2057400"/>
        </p:xfrm>
        <a:graphic>
          <a:graphicData uri="http://schemas.openxmlformats.org/drawingml/2006/table">
            <a:tbl>
              <a:tblPr/>
              <a:tblGrid>
                <a:gridCol w="1447920"/>
                <a:gridCol w="1143000"/>
                <a:gridCol w="838080"/>
              </a:tblGrid>
              <a:tr h="293760">
                <a:tc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정책쟁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응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비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2937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빈부격차감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2.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5.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2.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재정확대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증세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1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8.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18T23:57:34Z</dcterms:created>
  <dc:creator>정윤주</dc:creator>
  <dc:description/>
  <dc:language>en-US</dc:language>
  <cp:lastModifiedBy>김사일</cp:lastModifiedBy>
  <dcterms:modified xsi:type="dcterms:W3CDTF">2010-02-18T05:09:59Z</dcterms:modified>
  <cp:revision>131</cp:revision>
  <dc:subject/>
  <dc:title>PowerPoint 프레젠테이션</dc:title>
</cp:coreProperties>
</file>